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72B4BC-C544-4513-8F5F-F28E559442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35D2AE-5398-48DB-A8CB-2CC216C7971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F9B0-B347-4FE2-886C-40914442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3CA5-51B4-49AE-9FEC-AA5289E9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9D4F-0ECA-43A9-B8E0-69BD5F56D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4059-3BD4-4C83-86F8-7B367481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CDAC-7214-4F51-BC80-FF177642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6B2D-BEC4-4DD4-98BA-8FAC5B87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61EB-B302-4C8A-BAC7-992F28B3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B68C-474F-46BE-965E-5BBCEDEF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EEE5-BA97-4028-BCB6-053B9148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F2D9-0D06-4057-8B8A-1A2E42E4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D930-EEA7-4DD4-A3BF-30116C51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CDFF-3E7E-4436-A7F4-43713311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A99915-41C0-4C52-8978-E080105DF0F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9" name="Subtitle 2" descr=""/>
          <p:cNvPicPr/>
          <p:nvPr/>
        </p:nvPicPr>
        <p:blipFill>
          <a:blip r:embed="rId2"/>
          <a:stretch/>
        </p:blipFill>
        <p:spPr>
          <a:xfrm>
            <a:off x="1322280" y="3865680"/>
            <a:ext cx="649944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ra usar el pretérito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use the preterit to talk about events that were completed in the past.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re is a definite start and ending of the ac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narration of event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Q: What did you eat today?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: I ate a banan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5680080" y="3745080"/>
            <a:ext cx="2552760" cy="24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gular –ar verb ending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2354400"/>
          <a:ext cx="8229600" cy="3779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79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l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e7df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l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m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e7dfeb"/>
                    </a:solidFill>
                  </a:tcPr>
                </a:tc>
              </a:tr>
              <a:tr h="1245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l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s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l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ste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1254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l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l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</a:tbl>
          </a:graphicData>
        </a:graphic>
      </p:graphicFrame>
      <p:sp>
        <p:nvSpPr>
          <p:cNvPr id="55" name="TextBox 5"/>
          <p:cNvSpPr/>
          <p:nvPr/>
        </p:nvSpPr>
        <p:spPr>
          <a:xfrm>
            <a:off x="3330720" y="1765440"/>
            <a:ext cx="308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Hablar =         To tal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áctica…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 ____________ (hablar) por teléfono toda la noch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 amiga _________  (usar) mi computador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 padre y yo _________ (comprar) un regalo para mi madr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ictor y Miguel __________ (escuchar) los ipods después de _________ (tomar) el exame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spuestas…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ablé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r teléfono toda la noch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 amiga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só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 computador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 padre y yo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mpramos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 regalo para mi madr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ictor y Miguel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scucharon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s ipods después de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omar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 exame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¡Ojo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ar verbs that stem change in the present tense do NOT have a stem change in the preteri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na cosa más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erbs that end in –car, -gar and –zar have a spelling change in the Y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scar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qu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 busqué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gar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gu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 pagué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morzar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z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yo almorcé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áctica…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Yo______ (llegar) tarde a la clase de español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Yo _________ (practicar) fútbol después de las clase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Yo ______ (empezar) la tarea anoch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oy yo _______ (almorzar) al mediodía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sta fin de semana, yo no ______(jugar) videojuegos con Mateo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yer en la casa, yo no ________ (sacar) la basura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spuestas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822960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legué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arde a la clase de español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actiqué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fútbol después de las clas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mpecé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la tarea anoch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y yo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lmorcé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l mediodí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sta fin de semana yo no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jugué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ideo juegos con Mate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yer en la casa, yo no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aqué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 bas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4:20:43Z</dcterms:created>
  <dc:creator>localadmin</dc:creator>
  <dc:description/>
  <dc:language>en-US</dc:language>
  <cp:lastModifiedBy>Prine, Stephanie</cp:lastModifiedBy>
  <dcterms:modified xsi:type="dcterms:W3CDTF">2016-02-23T15:55:26Z</dcterms:modified>
  <cp:revision>17</cp:revision>
  <dc:subject/>
  <dc:title>El pretérito</dc:title>
</cp:coreProperties>
</file>